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media/image10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8B2F5-F354-4D2D-8ADB-19CEA152C9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9C163-D408-4B4B-9D4C-42D216A7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A28268-0E19-46D1-89E9-1282AF8F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889488-E481-4A35-A085-0D3041FE8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8B1630-F1E4-4D50-953B-DCDEFAA7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FE2A2B-EC44-4007-87C3-4932D518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D76312-418E-4A40-8FC2-723A45E6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AC3AAE-78A0-4961-8744-42013449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0A5AFB-EF96-43B3-89D4-F6024AB5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0910BC-373C-470C-B9CF-F8373A88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E9E23D-FFB2-4D93-B9EB-0A7E895BE3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59946-C46E-42B7-AAD5-6FF5CD1652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CFA5B-12B5-491E-A716-88746FBD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9AF19-5024-4883-866E-A53BC705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CC8CA-F2F9-4AB0-A6C0-C46F417C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7FD74-17A7-4CE9-A7EB-71F71B35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4C0E5-9174-40AA-8FD4-D719DE61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D74C3-89A5-4CEB-9E87-99E8B78EC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EA877-FB31-46D9-9A1E-088AD1D0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EF7CE-3DB3-4C7E-A1D5-4EBD420F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76692-1ABE-40F8-87F5-6DD949EC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5DFA5-1EE8-4DCD-A994-BEFE872B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5299C-546C-48BA-BF6A-1029551D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47942-5F9C-42EF-8D0F-DDD204DA5F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869B9-BB0B-4252-B4A1-2D61DC4CD4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1F7A6D-BFE5-4270-B295-FB69F1B079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2BED95-07D4-40F5-818E-315886F1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E7BCD6-7A8B-495D-8551-0BB23319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9D7145-FA71-450C-BBDA-FE95C367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CCCE5C-8BD7-49C2-B6AB-A61514DFC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E98A6D-4724-4647-A2C6-C3168DB5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1C582C-8F6D-4446-B967-ADF5520F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6526E0-B24E-4F45-8DA3-7C139F1B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4E9994-FBD8-4EF3-8E15-0E0EF0BC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8F456-DCD2-4FE5-B232-9293ECC4E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3DBC8C-A1F0-48E0-85EE-F9E84632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7D8319-CF83-41AB-9A41-A9A856DE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022159-BD48-4E38-84FF-A4E794D14B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5385E8-22C5-4A79-ABB0-4F6A67C9D8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D95B38-3430-46A8-9632-F558689D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128C64-51A9-4743-861F-4E60774A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B98E21-657E-4E8A-9C84-C9F36FC3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396549-3493-481C-BB7A-5349DB49A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95DF6C-D258-40C7-ADD9-0DEDF7817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1237CB-494A-4E61-ABCA-1C9D2DAE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94D4A-1163-40DF-979C-D9DC7F22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951934-E4B3-424E-B1AA-CC9F848F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26A6FD-7435-4BD6-85B1-7F1D38DA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36A446-7C8C-409D-94E0-9DDC20EA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DF2C73-E144-492B-AE54-3B850FC4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D11CA7-5149-4E80-AD39-E3BFAFC35F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BCAA5-C02F-4FE5-9BAB-CFD01DE43A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4C092-08CC-48FB-B99A-3C87B2E8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0158B-5E3D-4526-A2D5-50A7CAC1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BECB3-0713-442B-A1D9-7FA515AD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967BCD-216A-44AB-9BE5-83AF5A1D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35999-D5E4-43D3-B30B-8CA42CC3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FDDAB-7E34-4795-BAA2-30324E2BE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191EE-9208-4DE6-93E5-95770973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B0CDF-2146-42B4-BF7F-24CF2339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F5DC9-9937-48D2-8A1A-80AE4507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67534-6849-499B-8838-34087DF1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2FA3A-27CE-4998-841F-EFC3CC2F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F9B89-6089-4F03-9AAE-4E8ECB3E4D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73834-6427-46DC-A12F-83375D4A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B1FDF-AD77-4602-A726-2B56CEB3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E6258-2E00-42E8-AF19-60847756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83EBC-9E2A-455A-850F-B33451E9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DADE6-21FA-4539-B93B-A2CE05E4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AFAFA-029C-4600-A666-C3E3B70A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5B479-1C6C-4940-9489-B00A6C6E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53FFE-E844-479E-9A67-0B61CBB3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9389A-97C7-471B-BB0A-E0DAD52E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D52F5-AF0A-4BD2-AAF2-10EAB674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53560-316F-4436-9BCE-D400212D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0BA91-6A62-42E1-A0C7-866E6736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51695-EB50-4280-921C-7C4BD484D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2ABCF-4F0C-46EF-B38A-BAD84D2F6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CAA92-1DAC-4DC3-B202-BB6FD47B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BF172-1345-44AE-ADFC-6B7FDBA0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AFE8A-C775-42CB-BE47-38361D28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44EC9-AF5A-440D-A35C-E631092B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6AC8F-63C9-40AF-AD5A-321229AF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10988-FB1F-424E-9D6E-BF3A8635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8AD2A-4E59-447A-9735-A1F82F94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38584-CE71-492B-81F5-B0AC6D8C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6B829-EEBA-4230-82EA-C0D85CF5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FEC23-9D1B-42CA-8584-EC20DAA8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45D3C-2E44-4EFB-8D31-5D0DE2E7C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3B9E0-821B-410C-ADEC-070D25D0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05E41-F450-44FE-8F25-AA4020593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DB0BD-E7BB-4A0D-8FB6-3B22F0C8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C98516-5EB2-45A5-B3B0-66CBDE0A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205663-CBE4-4441-8F2C-B82AA2CC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E3337E-80AD-4C54-8BB4-F5AC6F5F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696EF-1D19-4BC7-A78E-DB6EB128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8E1538-4DBB-4A5A-8C51-2A91F509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D48F9A-44BE-47C3-BD36-AAA1748D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400844-142E-4C3F-99DD-17F64512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FC92CA-1A25-402F-8962-3C58E82C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35C1E-2401-48E6-9F17-3E4D9852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50C9B-A2DE-4BBE-816E-03567E0E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D127E-577B-46CF-8AF0-9923A21D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6528FF-4B7E-440A-B559-A96466A91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EAAA6B-0880-41AB-AFEB-BE0C5909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F06FE8-F679-4029-B420-F7636160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7C50FA-54DB-401D-9CDB-FFEA4529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DE4021-E12C-450F-B4B2-988829C1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EE1F5E-9EE7-4A31-B1E6-7B1F373D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96D719-B570-4759-B0D8-6A9E400F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E80C11-F421-4B34-9BCA-ED216812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89AB9-96DB-40C3-A27F-8495D23A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D14E6-4C19-43A2-8289-9D01419A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EFD84A-D559-42FB-9B7C-E7937B2B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3E675E-1E50-4789-9115-B419F449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92FCD6-A5ED-47E3-A7BF-A8AA14BF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0F44AE-6ECE-42CA-98B2-44D6C2325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077761-9118-42B3-B7EF-AE164B6B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95B076-2B07-4EF1-A5D1-F51A4DAFE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4C37E0-1799-4204-9A46-0156E0CB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265656-D56E-4FA2-AEE0-979FF79D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F3AEED-3EBF-43AB-92C7-460789B4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BA2DFE-69ED-4CA7-ABFD-4D98AB3D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1CA1E-73E9-428B-930F-EF9E3BFD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E46342-A6BF-49AB-81FD-4AFC5548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31084D-014A-4D1C-82F6-CD24B410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C135BD-3728-42F9-864C-2442FF96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B57405-3E5E-4383-A15A-E1B5C6C3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0DC144-CF3B-435E-9C32-2888CDD8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36C1DB-C81E-4FCD-80C5-DFAABFAFD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5C6B1E-5C8E-41FD-996C-3F8135FD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EE7FDF-DBC1-4722-8675-AE5DE26AC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FF39E7-F48E-4618-AD9D-DBB5B1C0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C19A6F-6A52-428C-BB5C-302238CE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2DD66-A78C-4EA6-95DB-8859B784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C3CB41-1075-44CF-B19C-05D8F547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47B62C-57C1-48D6-B2E6-E01FF2FE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69BF22-0366-4966-AB82-D7F0523D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77BCD0-5133-4FCE-B00C-9E491C7A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8FB783-0045-4EAD-8649-FFDE790C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F0A034-6DD0-46E0-9DC4-538E5DE5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A60CC1-3BD0-48A9-8B69-32E8AE4B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769A3D-40BF-4576-BADB-E7038C1D8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EF4323-9C7B-4782-8442-43D1A464E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0E454A-516B-4348-B278-FBB42CC18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B4C6F-9606-4B0A-835C-4DF60D61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3B6C7A-56BE-407A-8C42-3DB788F7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6EED11-CF78-4C1B-8701-615168A7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3928F5-9D91-40FC-B3EB-CA2403C9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A436EC-6999-44E3-8BB8-8A6FEB96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F2945A-D2FB-4907-9657-0C0E0ADF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337075-57E8-4086-9C4F-88FE4274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677C39-FAC0-4F57-B261-135E7536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0B033B-9C7A-42B3-BC0C-392A3FD4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C8C921-3F59-4694-AD5C-20763DE1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63454A-70BE-43C1-8ACC-B0E7E3EA3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4D823-0C09-438B-85E7-4B749EB07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37BE6F-87D1-41E5-9903-A3745DF5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31B99B-ECF3-488E-8AF5-FB5F1148A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BC4574-7DD1-49E9-AD25-0337E11D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9B0623-A2DB-45CE-94D2-0C19FF26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F8F756-7FC0-446B-B47A-72783DA5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9D1977-C0CA-4E5B-B86B-0734111F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DD11D7-F95C-42CC-8E1D-634601C1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6B3D56-8C28-4FEC-A21B-C8620C7A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DD205F-5E47-415D-9473-21D0542C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FC1BA5-6D21-4F60-BBBA-6D0E7484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E86B99-A443-45EB-9995-F2031FCEBF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CEDF35-E44A-44C6-8740-F824E4A4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614982-C848-4D11-8C59-02B68F53A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E34F0D-8783-4914-B45A-D0781F79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D7B4B2-7DD2-4A51-89ED-284F9E76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C6FC4D-D63B-4EAA-B088-56ADE9CC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F56653-C2FE-4CF3-91B8-84FFF31B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A31EB8-526F-4B31-ADBF-1DC35FBA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27D286-EEF6-4559-8B1D-DDCFFCFD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0912D4-72E6-47C4-B2ED-DBE430B1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E22AC9-79CF-4FFB-AD94-E7B6428B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6ED608-D6A7-4F7D-A5EE-22E30E6C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CAE138-BBC5-4F43-8DFA-66DFF202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090162-E220-4152-AFFB-BED09E89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50E8EA-60D1-4764-B839-C2C56493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6F4F8D-855B-4FA8-B16C-4B262392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99181A-B950-44E2-80D0-3CEDD0E12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9A0B03-53B0-4AB7-85BA-25D3B5B3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912791-4114-4A16-8CA8-3CADF312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D20196-FB3C-4555-A50A-FE912FEB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BAE7AC-DD0A-4352-92A1-0B2E05E5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FC08F9-4AA4-4F69-925D-49338055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64E84B-4CA7-44A4-A169-466D4313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F58B04-A6F4-496C-9A9A-A3DCF70B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D571F5-A2BD-4C8F-8C54-CA92163E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660FEE-4C9D-4652-8F5E-2B920C60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A777C8-AC61-41DA-9475-66DA524F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5EEF67-0ADE-4FD9-9BED-0BA31C27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C7BD72-A2CD-4894-AAC8-40F5A445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7E7AB0-C7E3-4E64-8498-1C5DBD6CA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5035EA-22BA-4DA3-8F80-8403EE69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D7B3FB-D514-4539-A13E-8FF6644E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BB4CE7-689B-423E-8E27-4DB68EC0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4E0E7B-17BA-4BC8-A067-514F910B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BE50D9-EC39-4215-83F1-69379A42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C06BD0-130F-4005-844C-9A378647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335591-5530-4CA9-B98D-62305993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24D317-21E6-4374-B7D2-982BEFF1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53CC42-0DD4-43D4-A174-11F8677C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BF0322-17EE-45CC-8A27-01D0CFCD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3B4C9B-33D9-45D8-80F2-8540E31B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09DB79-E759-4E5C-AECE-BA8333456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6C8259-F0BA-456F-BDB9-D8966738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0DAF1F-9C01-43E4-A8F3-9FE3EA01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C0B1F-925C-4949-AB30-CC9CA12A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3F54E3-975E-44E8-853F-6D2248C3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BC8AA0-6D98-41DC-BE33-06C928BC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244370-49DA-4057-9688-3E6C0C77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9EE6B3-1676-45F2-B4E9-D258BF46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8DDB9C-5CCF-4F1B-A3EE-D9901973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533F8E-1BEC-4EE4-87B6-FDF338D0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1FC900-5598-4C7E-AA93-A324BB70D8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BA9CA-5492-4315-B7E9-88A78BBC4E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F0BAB-08D9-4014-8621-529E2DBC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0F8B1-3F63-4DA3-824A-D1DF57C0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92E9A-CB0E-4A60-8446-CDDCFD13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34C35-A8D4-4CA3-9B62-84919ADE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5A073-253B-4A7E-A4C7-FAC6BDDA1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69551-BDD6-4EA6-99FB-36EEB8AAB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D1863-D2F7-471F-9F45-1D9EEAAE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33591-E4D9-46FD-8F61-4E2794FD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70F21-FD12-4FCF-A86F-65B5DCD3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C881E-D145-427E-9620-D668EE27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17BD5-FF91-4ED1-8741-9B0480F0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DFD34-D42A-4C79-B9A1-93B328C11C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A9A360-6209-4AFD-A2B1-9B221FB812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0312D-2595-4929-81EF-DA3B675C8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AC672F-7374-44A8-9296-B86D1D1C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847E81-8E57-4EFA-9BF1-9EC7D768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3E229D-C12B-48DC-86AB-2582148D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71C4A2-3633-488D-AD1F-247F5C97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FBF1DC-CE66-428E-8278-C747E6D4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B5A5F0-FBD3-4883-9873-D3BCCC61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576BBF-DC1C-47F3-9CD3-67AFF419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8A3E8C-B6DB-4D0F-8096-771D8304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9D50EA-1458-4D71-AC69-9F244AD6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6CBF99-A707-41A4-BA89-31682F59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70AB4-78DC-4BCB-8A64-B1B16708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4CF428-3131-4CF6-BA36-FC84A0A600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FF0930-BDAD-4318-A3D9-C3F9254836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A66D15-1161-4726-A671-D516F6FC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3A51FD-B867-4043-B1B1-5D2EDCA3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8C5D39-F50C-40ED-BACA-704F0077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980B91-5553-4741-986E-B82C57BB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8188D4-5EDB-420F-B438-50DB87B2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22FCD0-1350-416D-A2D7-3B2C0C0B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47AACA-3A47-4C21-A145-9DCD8953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FE2911-5730-4EF1-BD73-02326984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30D86-3710-45D9-9AE7-6066C7BC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60415D-011E-46B6-8A15-83A49D5C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321897-9ECF-4287-BF4E-8B4488AF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AE6458-6E55-4F56-ABC0-FC4F35DA33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FD472-ADDD-4992-9103-33E516656A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4A345-847C-4D1B-BA59-135B6DAE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B2197-0506-403F-8312-6FE52C87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0C3CD-8746-41A7-A44A-2BC52923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3159D-31ED-437D-9804-8878F06B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430F1-5733-401A-B13B-EC549831F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12918-883E-488F-9376-0B244C2C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7F508-BEDA-4A7C-9E5D-FAD49DA8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F672E-B913-43FB-9F12-557C37B9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82291-0A90-4B17-BAFB-39D39C90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547BE-77A2-4DC2-AA6D-B1548EA8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D1E6D-0943-48C4-9B42-A9BB8756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BBF7F-AF7E-4606-90B9-3B76CEBD5D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788833-76E0-4CB9-9E84-9D209DADC2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E6BDF1-AE52-4D5D-B013-5443D873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5FC99A-2A77-4E64-9F34-01F5E843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D63BC6-C351-4A78-87D6-74EC4642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7C32CE-F78A-4DBB-A500-D3C245E6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36EC1-8365-4C6F-9F3D-CDCBEA73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5FB131-EAE2-491C-815D-A26A5B46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49CD8B-F8B9-4EA9-8FAB-ECE02FDB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6E3C48-358E-4805-B788-402ED52F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8E9628-D344-4558-9B05-179C50B1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EE7FF2-3249-450D-B343-8CC9050B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CC9123-CA6D-45D4-9892-43BBAC2C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502E39-B29E-40EE-99FC-B28E83ACC1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1451D4-936E-4DD5-A283-26BF06C8A2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25128D-9CE0-4F55-B0F0-33B48046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C82DA8-0448-4A30-A471-724B0C82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4AFB-4571-4291-87A6-9617C40E7C5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8A7F-AE19-41D5-906D-9969993C538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E7F2-52B2-4905-B890-F9A332800B7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C2AB-2EC1-4269-A946-13769554945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D4D7-3E6E-474A-9F02-119D45E7B75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0017-7C75-453F-B9FC-E2E2D5B9A59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72B7-6E32-4A7A-A50D-56F4FC1D178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5DFC-3E60-4087-A1BF-143D475DE9D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8361-A328-4A47-9363-048B605BCD5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4138-5A15-4A2F-B7B5-6325D132742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D0E3-7F46-4D16-B2C5-4501727313E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BA1B-61CF-4E97-BBDE-7AB82A38758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BC0E-D4C2-4D94-BADA-E25B0A755A8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9F05-3287-4A58-8157-620D724139D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FF7D-6A16-4934-A50E-BC76A7A8E40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2FC5-9B3A-4FC2-AB2F-2275513B42E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D51B-5ABC-45A2-9CA9-8D1110BD064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49B7-B1AA-4A05-BD76-E53B700DEE3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B43A-8C68-4F66-AAB6-5286F7352F8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6B8E-F110-42FC-BD53-FBFF8F89716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B0B6-C091-44CB-AEDB-80186B6D6C7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D7FD-6098-45D6-964C-9D113767778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9A05-F2DA-4037-BC3C-D5C15574E72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760D-3420-4EED-AF9D-E5D7AE8FAFB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1565280" y="264960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</a:t>
            </a:r>
            <a:r>
              <a:rPr b="1" lang="zh-CN" sz="2600" spc="-1" strike="noStrike">
                <a:solidFill>
                  <a:srgbClr val="000000"/>
                </a:solidFill>
                <a:latin typeface="汉仪大宋简"/>
                <a:ea typeface="宋体"/>
              </a:rPr>
              <a:t>亿 以 上 数 的 写 法 及 改 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4321080" cy="360"/>
            <a:chOff x="2284560" y="2448000"/>
            <a:chExt cx="432108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43210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432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1000" y="1744560"/>
            <a:ext cx="611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数的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TextBox 9"/>
          <p:cNvSpPr/>
          <p:nvPr/>
        </p:nvSpPr>
        <p:spPr>
          <a:xfrm>
            <a:off x="357120" y="841320"/>
            <a:ext cx="842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f0"/>
                </a:solidFill>
                <a:latin typeface="Calibri"/>
              </a:rPr>
              <a:t>         </a:t>
            </a:r>
            <a:r>
              <a:rPr b="1" lang="en-US" sz="2600" spc="-1" strike="noStrike">
                <a:solidFill>
                  <a:srgbClr val="00b0f0"/>
                </a:solidFill>
                <a:latin typeface="Calibri"/>
              </a:rPr>
              <a:t>1.</a:t>
            </a:r>
            <a:r>
              <a:rPr b="1" lang="zh-CN" sz="2600" spc="-1" strike="noStrike">
                <a:solidFill>
                  <a:srgbClr val="00b0f0"/>
                </a:solidFill>
                <a:latin typeface="Calibri"/>
                <a:ea typeface="宋体"/>
              </a:rPr>
              <a:t>北京每年因漏水浪费水资源</a:t>
            </a:r>
            <a:r>
              <a:rPr b="1" lang="en-US" sz="2600" spc="-1" strike="noStrike">
                <a:solidFill>
                  <a:srgbClr val="00b0f0"/>
                </a:solidFill>
                <a:latin typeface="Calibri"/>
              </a:rPr>
              <a:t>100000000</a:t>
            </a:r>
            <a:r>
              <a:rPr b="1" lang="zh-CN" sz="2600" spc="-1" strike="noStrike">
                <a:solidFill>
                  <a:srgbClr val="00b0f0"/>
                </a:solidFill>
                <a:latin typeface="Calibri"/>
                <a:ea typeface="宋体"/>
              </a:rPr>
              <a:t>立方米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b0f0"/>
                </a:solidFill>
                <a:latin typeface="Calibri"/>
                <a:ea typeface="宋体"/>
              </a:rPr>
              <a:t>         </a:t>
            </a:r>
            <a:r>
              <a:rPr b="1" lang="en-US" sz="2600" spc="-1" strike="noStrike">
                <a:solidFill>
                  <a:srgbClr val="00b0f0"/>
                </a:solidFill>
                <a:latin typeface="Calibri"/>
              </a:rPr>
              <a:t>2.</a:t>
            </a:r>
            <a:r>
              <a:rPr b="1" lang="zh-CN" sz="2600" spc="-1" strike="noStrike">
                <a:solidFill>
                  <a:srgbClr val="00b0f0"/>
                </a:solidFill>
                <a:latin typeface="Calibri"/>
                <a:ea typeface="宋体"/>
              </a:rPr>
              <a:t>北京每年因漏水浪费水资源</a:t>
            </a:r>
            <a:r>
              <a:rPr b="1" lang="en-US" sz="2600" spc="-1" strike="noStrike">
                <a:solidFill>
                  <a:srgbClr val="00b0f0"/>
                </a:solidFill>
                <a:latin typeface="Calibri"/>
              </a:rPr>
              <a:t>1</a:t>
            </a:r>
            <a:r>
              <a:rPr b="1" lang="zh-CN" sz="2600" spc="-1" strike="noStrike">
                <a:solidFill>
                  <a:srgbClr val="00b0f0"/>
                </a:solidFill>
                <a:latin typeface="Calibri"/>
                <a:ea typeface="宋体"/>
              </a:rPr>
              <a:t>亿立方米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Box 10"/>
          <p:cNvSpPr/>
          <p:nvPr/>
        </p:nvSpPr>
        <p:spPr>
          <a:xfrm>
            <a:off x="357120" y="2060640"/>
            <a:ext cx="84297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观察、比较、对于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100000000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亿两种记录形式，你有什么发现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11"/>
          <p:cNvSpPr/>
          <p:nvPr/>
        </p:nvSpPr>
        <p:spPr>
          <a:xfrm>
            <a:off x="1147680" y="3127320"/>
            <a:ext cx="395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Calibri"/>
                <a:ea typeface="宋体"/>
              </a:rPr>
              <a:t>计数单位不同：个，亿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Calibri"/>
                <a:ea typeface="宋体"/>
              </a:rPr>
              <a:t>数值相同：大小相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12"/>
          <p:cNvSpPr/>
          <p:nvPr/>
        </p:nvSpPr>
        <p:spPr>
          <a:xfrm>
            <a:off x="457200" y="4879800"/>
            <a:ext cx="8429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1" lang="zh-CN" sz="2600" spc="-1" strike="noStrike">
                <a:solidFill>
                  <a:srgbClr val="ff0000"/>
                </a:solidFill>
                <a:latin typeface="Calibri"/>
                <a:ea typeface="宋体"/>
              </a:rPr>
              <a:t>为了读、写、算时更加方便，我们常常会把这样的大数改写成用“亿”作单位的数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21"/>
          <p:cNvSpPr/>
          <p:nvPr/>
        </p:nvSpPr>
        <p:spPr>
          <a:xfrm>
            <a:off x="1096920" y="12240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复习导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矩形 71686"/>
          <p:cNvSpPr/>
          <p:nvPr/>
        </p:nvSpPr>
        <p:spPr>
          <a:xfrm>
            <a:off x="1975320" y="4317840"/>
            <a:ext cx="2954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两种方法你喜欢哪种？为什么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文本框 67585"/>
          <p:cNvSpPr/>
          <p:nvPr/>
        </p:nvSpPr>
        <p:spPr>
          <a:xfrm>
            <a:off x="3216960" y="1905120"/>
            <a:ext cx="592596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千 百 十 亿   千 百 十 万   千 百 十 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亿 亿 亿        万 万 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位 位 位 位   位 位 位 位   位 位 位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     0   0  0   0     0  0   0 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  0     9   0  0   0     0  0   0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6" name=""/>
          <p:cNvGrpSpPr/>
          <p:nvPr/>
        </p:nvGrpSpPr>
        <p:grpSpPr>
          <a:xfrm>
            <a:off x="3123720" y="3352320"/>
            <a:ext cx="5868000" cy="360"/>
            <a:chOff x="3123720" y="3352320"/>
            <a:chExt cx="5868000" cy="360"/>
          </a:xfrm>
        </p:grpSpPr>
        <p:sp>
          <p:nvSpPr>
            <p:cNvPr id="1017" name="直接连接符 67586"/>
            <p:cNvSpPr/>
            <p:nvPr/>
          </p:nvSpPr>
          <p:spPr>
            <a:xfrm>
              <a:off x="3124080" y="3352680"/>
              <a:ext cx="5867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 txBox="1"/>
            <p:nvPr/>
          </p:nvSpPr>
          <p:spPr>
            <a:xfrm rot="10800000">
              <a:off x="3123720" y="3351960"/>
              <a:ext cx="586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5181480" y="1928880"/>
            <a:ext cx="360" cy="3633840"/>
            <a:chOff x="5181480" y="1928880"/>
            <a:chExt cx="360" cy="3633840"/>
          </a:xfrm>
        </p:grpSpPr>
        <p:sp>
          <p:nvSpPr>
            <p:cNvPr id="1020" name="直接连接符 67587"/>
            <p:cNvSpPr/>
            <p:nvPr/>
          </p:nvSpPr>
          <p:spPr>
            <a:xfrm>
              <a:off x="5181480" y="1928880"/>
              <a:ext cx="0" cy="36338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 txBox="1"/>
            <p:nvPr/>
          </p:nvSpPr>
          <p:spPr>
            <a:xfrm>
              <a:off x="5181480" y="1928880"/>
              <a:ext cx="360" cy="363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7162920" y="1905120"/>
            <a:ext cx="360" cy="3657600"/>
            <a:chOff x="7162920" y="1905120"/>
            <a:chExt cx="360" cy="3657600"/>
          </a:xfrm>
        </p:grpSpPr>
        <p:sp>
          <p:nvSpPr>
            <p:cNvPr id="1023" name="直接连接符 67588"/>
            <p:cNvSpPr/>
            <p:nvPr/>
          </p:nvSpPr>
          <p:spPr>
            <a:xfrm>
              <a:off x="7162920" y="190512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 txBox="1"/>
            <p:nvPr/>
          </p:nvSpPr>
          <p:spPr>
            <a:xfrm>
              <a:off x="7162920" y="1905120"/>
              <a:ext cx="360" cy="365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5" name="文本框 67589"/>
          <p:cNvSpPr/>
          <p:nvPr/>
        </p:nvSpPr>
        <p:spPr>
          <a:xfrm>
            <a:off x="2221200" y="8413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写出下面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文本框 67590"/>
          <p:cNvSpPr/>
          <p:nvPr/>
        </p:nvSpPr>
        <p:spPr>
          <a:xfrm>
            <a:off x="635040" y="3394080"/>
            <a:ext cx="2314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十亿九千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七千零三亿零二十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67591"/>
          <p:cNvSpPr/>
          <p:nvPr/>
        </p:nvSpPr>
        <p:spPr>
          <a:xfrm>
            <a:off x="3421440" y="4876920"/>
            <a:ext cx="56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  0  0  3     0   0  2   0     0  0   0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八边形 7"/>
          <p:cNvSpPr/>
          <p:nvPr/>
        </p:nvSpPr>
        <p:spPr>
          <a:xfrm>
            <a:off x="449280" y="852480"/>
            <a:ext cx="52236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TextBox 7"/>
          <p:cNvSpPr/>
          <p:nvPr/>
        </p:nvSpPr>
        <p:spPr>
          <a:xfrm>
            <a:off x="685800" y="7621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总结方法：亿以上的数怎么写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68610"/>
          <p:cNvSpPr/>
          <p:nvPr/>
        </p:nvSpPr>
        <p:spPr>
          <a:xfrm>
            <a:off x="1219320" y="2009880"/>
            <a:ext cx="274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先看这个数有几级，再从最高级写起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68611"/>
          <p:cNvSpPr/>
          <p:nvPr/>
        </p:nvSpPr>
        <p:spPr>
          <a:xfrm>
            <a:off x="4572000" y="1905120"/>
            <a:ext cx="33526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哪个数位上一个单位也没有，就在那个数位上写</a:t>
            </a:r>
            <a:r>
              <a:rPr b="1" lang="en-US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0</a:t>
            </a:r>
            <a:r>
              <a:rPr b="1" lang="zh-CN" sz="2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2" name="图片 68612" descr="E:\2017秋上·黄倩\其他\人\蜜蜂.gif蜜蜂"/>
          <p:cNvPicPr/>
          <p:nvPr/>
        </p:nvPicPr>
        <p:blipFill>
          <a:blip r:embed="rId1"/>
          <a:stretch/>
        </p:blipFill>
        <p:spPr>
          <a:xfrm>
            <a:off x="7924680" y="3200400"/>
            <a:ext cx="933480" cy="1027080"/>
          </a:xfrm>
          <a:prstGeom prst="rect">
            <a:avLst/>
          </a:prstGeom>
          <a:ln w="0">
            <a:noFill/>
          </a:ln>
        </p:spPr>
      </p:pic>
      <p:pic>
        <p:nvPicPr>
          <p:cNvPr id="1033" name="图片 68613" descr="E:\2017秋上·黄倩\其他\人\海豚.jpg海豚"/>
          <p:cNvPicPr/>
          <p:nvPr/>
        </p:nvPicPr>
        <p:blipFill>
          <a:blip r:embed="rId2"/>
          <a:stretch/>
        </p:blipFill>
        <p:spPr>
          <a:xfrm>
            <a:off x="349200" y="3581280"/>
            <a:ext cx="901800" cy="1095480"/>
          </a:xfrm>
          <a:prstGeom prst="rect">
            <a:avLst/>
          </a:prstGeom>
          <a:ln w="0">
            <a:noFill/>
          </a:ln>
        </p:spPr>
      </p:pic>
      <p:sp>
        <p:nvSpPr>
          <p:cNvPr id="1034" name="圆角矩形标注 68614"/>
          <p:cNvSpPr/>
          <p:nvPr/>
        </p:nvSpPr>
        <p:spPr>
          <a:xfrm>
            <a:off x="990720" y="1981080"/>
            <a:ext cx="2895480" cy="1371600"/>
          </a:xfrm>
          <a:prstGeom prst="wedgeRoundRectCallout">
            <a:avLst>
              <a:gd name="adj1" fmla="val -34592"/>
              <a:gd name="adj2" fmla="val 7199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圆角矩形标注 68615"/>
          <p:cNvSpPr/>
          <p:nvPr/>
        </p:nvSpPr>
        <p:spPr>
          <a:xfrm>
            <a:off x="4419720" y="1959120"/>
            <a:ext cx="3504960" cy="1469880"/>
          </a:xfrm>
          <a:prstGeom prst="wedgeRoundRectCallout">
            <a:avLst>
              <a:gd name="adj1" fmla="val 42662"/>
              <a:gd name="adj2" fmla="val 6674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6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37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8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39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0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1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2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3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4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5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6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7" name="内容占位符 2"/>
          <p:cNvSpPr/>
          <p:nvPr/>
        </p:nvSpPr>
        <p:spPr>
          <a:xfrm>
            <a:off x="455760" y="1428840"/>
            <a:ext cx="49528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00000000=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00000000=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            ）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30500000000=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            ）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72710"/>
          <p:cNvSpPr/>
          <p:nvPr/>
        </p:nvSpPr>
        <p:spPr>
          <a:xfrm>
            <a:off x="2952720" y="923760"/>
            <a:ext cx="21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下面各数改写成用“亿”作单位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21"/>
          <p:cNvSpPr/>
          <p:nvPr/>
        </p:nvSpPr>
        <p:spPr>
          <a:xfrm>
            <a:off x="1618920" y="122400"/>
            <a:ext cx="3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二、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八边形 7"/>
          <p:cNvSpPr/>
          <p:nvPr/>
        </p:nvSpPr>
        <p:spPr>
          <a:xfrm>
            <a:off x="374760" y="851040"/>
            <a:ext cx="5220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组合 1"/>
          <p:cNvGrpSpPr/>
          <p:nvPr/>
        </p:nvGrpSpPr>
        <p:grpSpPr>
          <a:xfrm>
            <a:off x="425520" y="4192560"/>
            <a:ext cx="1886040" cy="459720"/>
            <a:chOff x="425520" y="4192560"/>
            <a:chExt cx="1886040" cy="459720"/>
          </a:xfrm>
        </p:grpSpPr>
        <p:sp>
          <p:nvSpPr>
            <p:cNvPr id="1052" name="TextBox 3"/>
            <p:cNvSpPr/>
            <p:nvPr/>
          </p:nvSpPr>
          <p:spPr>
            <a:xfrm>
              <a:off x="530280" y="4192560"/>
              <a:ext cx="17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理解题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缺角矩形 37"/>
            <p:cNvSpPr/>
            <p:nvPr/>
          </p:nvSpPr>
          <p:spPr>
            <a:xfrm>
              <a:off x="425520" y="4313160"/>
              <a:ext cx="216000" cy="215640"/>
            </a:xfrm>
            <a:custGeom>
              <a:avLst/>
              <a:gdLst>
                <a:gd name="textAreaLeft" fmla="*/ 25200 w 216000"/>
                <a:gd name="textAreaRight" fmla="*/ 190800 w 21600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36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36" y="21600"/>
                  </a:lnTo>
                  <a:arcTo wR="3600" hR="3600" stAng="10800000" swAng="5400000"/>
                  <a:lnTo>
                    <a:pt x="21636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文本框 3"/>
          <p:cNvSpPr/>
          <p:nvPr/>
        </p:nvSpPr>
        <p:spPr>
          <a:xfrm>
            <a:off x="511200" y="4621320"/>
            <a:ext cx="787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出的这三个数都是整亿数，把整亿数改写成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单位的数，就是把计数单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改写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56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7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58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9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0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6" name="文本框 72711"/>
          <p:cNvSpPr/>
          <p:nvPr/>
        </p:nvSpPr>
        <p:spPr>
          <a:xfrm>
            <a:off x="568440" y="1387440"/>
            <a:ext cx="73911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改写方法：</a:t>
            </a:r>
            <a:r>
              <a:rPr b="1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改写成用“亿”作单位的数，先分级，再去掉万级和个级的</a:t>
            </a:r>
            <a:r>
              <a:rPr b="1" lang="en-US" sz="24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，加上一个“亿”字就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21"/>
          <p:cNvSpPr/>
          <p:nvPr/>
        </p:nvSpPr>
        <p:spPr>
          <a:xfrm>
            <a:off x="1618920" y="122400"/>
            <a:ext cx="3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二、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8" name="组合 38"/>
          <p:cNvGrpSpPr/>
          <p:nvPr/>
        </p:nvGrpSpPr>
        <p:grpSpPr>
          <a:xfrm>
            <a:off x="336600" y="878040"/>
            <a:ext cx="2147400" cy="459720"/>
            <a:chOff x="336600" y="878040"/>
            <a:chExt cx="2147400" cy="459720"/>
          </a:xfrm>
        </p:grpSpPr>
        <p:sp>
          <p:nvSpPr>
            <p:cNvPr id="1069" name="TextBox 3"/>
            <p:cNvSpPr/>
            <p:nvPr/>
          </p:nvSpPr>
          <p:spPr>
            <a:xfrm>
              <a:off x="441000" y="878040"/>
              <a:ext cx="20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解法探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缺角矩形 40"/>
            <p:cNvSpPr/>
            <p:nvPr/>
          </p:nvSpPr>
          <p:spPr>
            <a:xfrm>
              <a:off x="336600" y="998640"/>
              <a:ext cx="215640" cy="215640"/>
            </a:xfrm>
            <a:custGeom>
              <a:avLst/>
              <a:gdLst>
                <a:gd name="textAreaLeft" fmla="*/ 25200 w 215640"/>
                <a:gd name="textAreaRight" fmla="*/ 190440 w 21564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1" name="组合 1"/>
          <p:cNvGrpSpPr/>
          <p:nvPr/>
        </p:nvGrpSpPr>
        <p:grpSpPr>
          <a:xfrm>
            <a:off x="361800" y="2558880"/>
            <a:ext cx="2122200" cy="459720"/>
            <a:chOff x="361800" y="2558880"/>
            <a:chExt cx="2122200" cy="459720"/>
          </a:xfrm>
        </p:grpSpPr>
        <p:sp>
          <p:nvSpPr>
            <p:cNvPr id="1072" name="TextBox 3"/>
            <p:cNvSpPr/>
            <p:nvPr/>
          </p:nvSpPr>
          <p:spPr>
            <a:xfrm>
              <a:off x="439560" y="2558880"/>
              <a:ext cx="204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改写过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缺角矩形 3"/>
            <p:cNvSpPr/>
            <p:nvPr/>
          </p:nvSpPr>
          <p:spPr>
            <a:xfrm>
              <a:off x="361800" y="2679480"/>
              <a:ext cx="215640" cy="215640"/>
            </a:xfrm>
            <a:custGeom>
              <a:avLst/>
              <a:gdLst>
                <a:gd name="textAreaLeft" fmla="*/ 25200 w 215640"/>
                <a:gd name="textAreaRight" fmla="*/ 190440 w 21564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4" name="文本框 4"/>
          <p:cNvSpPr/>
          <p:nvPr/>
        </p:nvSpPr>
        <p:spPr>
          <a:xfrm>
            <a:off x="488880" y="3112920"/>
            <a:ext cx="22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文本框 8"/>
          <p:cNvSpPr/>
          <p:nvPr/>
        </p:nvSpPr>
        <p:spPr>
          <a:xfrm>
            <a:off x="2975040" y="3112920"/>
            <a:ext cx="22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文本框 9"/>
          <p:cNvSpPr/>
          <p:nvPr/>
        </p:nvSpPr>
        <p:spPr>
          <a:xfrm>
            <a:off x="5678640" y="3112920"/>
            <a:ext cx="32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305 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7" name="组合 24"/>
          <p:cNvGrpSpPr/>
          <p:nvPr/>
        </p:nvGrpSpPr>
        <p:grpSpPr>
          <a:xfrm>
            <a:off x="843120" y="3495240"/>
            <a:ext cx="1331640" cy="883080"/>
            <a:chOff x="843120" y="3495240"/>
            <a:chExt cx="1331640" cy="883080"/>
          </a:xfrm>
        </p:grpSpPr>
        <p:grpSp>
          <p:nvGrpSpPr>
            <p:cNvPr id="1078" name="组合 18"/>
            <p:cNvGrpSpPr/>
            <p:nvPr/>
          </p:nvGrpSpPr>
          <p:grpSpPr>
            <a:xfrm>
              <a:off x="843120" y="3495240"/>
              <a:ext cx="1331640" cy="460800"/>
              <a:chOff x="843120" y="3495240"/>
              <a:chExt cx="1331640" cy="460800"/>
            </a:xfrm>
          </p:grpSpPr>
          <p:sp>
            <p:nvSpPr>
              <p:cNvPr id="1079" name="直接连接符 10"/>
              <p:cNvSpPr/>
              <p:nvPr/>
            </p:nvSpPr>
            <p:spPr>
              <a:xfrm>
                <a:off x="843120" y="3495960"/>
                <a:ext cx="13316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80" name="直接箭头连接符 15"/>
              <p:cNvCxnSpPr/>
              <p:nvPr/>
            </p:nvCxnSpPr>
            <p:spPr>
              <a:xfrm>
                <a:off x="1495440" y="3495240"/>
                <a:ext cx="1080" cy="46116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  <a:tailEnd len="med" type="arrow" w="med"/>
              </a:ln>
            </p:spPr>
          </p:cxnSp>
        </p:grpSp>
        <p:sp>
          <p:nvSpPr>
            <p:cNvPr id="1081" name="文本框 21"/>
            <p:cNvSpPr/>
            <p:nvPr/>
          </p:nvSpPr>
          <p:spPr>
            <a:xfrm>
              <a:off x="1230840" y="391860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组合 25"/>
          <p:cNvGrpSpPr/>
          <p:nvPr/>
        </p:nvGrpSpPr>
        <p:grpSpPr>
          <a:xfrm>
            <a:off x="3487680" y="3495240"/>
            <a:ext cx="1332000" cy="883080"/>
            <a:chOff x="3487680" y="3495240"/>
            <a:chExt cx="1332000" cy="883080"/>
          </a:xfrm>
        </p:grpSpPr>
        <p:grpSp>
          <p:nvGrpSpPr>
            <p:cNvPr id="1083" name="组合 19"/>
            <p:cNvGrpSpPr/>
            <p:nvPr/>
          </p:nvGrpSpPr>
          <p:grpSpPr>
            <a:xfrm>
              <a:off x="3487680" y="3495240"/>
              <a:ext cx="1332000" cy="460800"/>
              <a:chOff x="3487680" y="3495240"/>
              <a:chExt cx="1332000" cy="460800"/>
            </a:xfrm>
          </p:grpSpPr>
          <p:sp>
            <p:nvSpPr>
              <p:cNvPr id="1084" name="直接连接符 12"/>
              <p:cNvSpPr/>
              <p:nvPr/>
            </p:nvSpPr>
            <p:spPr>
              <a:xfrm>
                <a:off x="3487680" y="3495960"/>
                <a:ext cx="1332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85" name="直接箭头连接符 16"/>
              <p:cNvCxnSpPr/>
              <p:nvPr/>
            </p:nvCxnSpPr>
            <p:spPr>
              <a:xfrm>
                <a:off x="4166280" y="3495240"/>
                <a:ext cx="1080" cy="46116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  <a:tailEnd len="med" type="arrow" w="med"/>
              </a:ln>
            </p:spPr>
          </p:cxnSp>
        </p:grpSp>
        <p:sp>
          <p:nvSpPr>
            <p:cNvPr id="1086" name="文本框 22"/>
            <p:cNvSpPr/>
            <p:nvPr/>
          </p:nvSpPr>
          <p:spPr>
            <a:xfrm>
              <a:off x="3900240" y="3918600"/>
              <a:ext cx="53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7" name="组合 26"/>
          <p:cNvGrpSpPr/>
          <p:nvPr/>
        </p:nvGrpSpPr>
        <p:grpSpPr>
          <a:xfrm>
            <a:off x="6553080" y="3495240"/>
            <a:ext cx="1333800" cy="883080"/>
            <a:chOff x="6553080" y="3495240"/>
            <a:chExt cx="1333800" cy="883080"/>
          </a:xfrm>
        </p:grpSpPr>
        <p:grpSp>
          <p:nvGrpSpPr>
            <p:cNvPr id="1088" name="组合 20"/>
            <p:cNvGrpSpPr/>
            <p:nvPr/>
          </p:nvGrpSpPr>
          <p:grpSpPr>
            <a:xfrm>
              <a:off x="6553080" y="3495240"/>
              <a:ext cx="1333800" cy="460800"/>
              <a:chOff x="6553080" y="3495240"/>
              <a:chExt cx="1333800" cy="460800"/>
            </a:xfrm>
          </p:grpSpPr>
          <p:sp>
            <p:nvSpPr>
              <p:cNvPr id="1089" name="直接连接符 14"/>
              <p:cNvSpPr/>
              <p:nvPr/>
            </p:nvSpPr>
            <p:spPr>
              <a:xfrm>
                <a:off x="6553080" y="3495960"/>
                <a:ext cx="1333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90" name="直接箭头连接符 17"/>
              <p:cNvCxnSpPr/>
              <p:nvPr/>
            </p:nvCxnSpPr>
            <p:spPr>
              <a:xfrm>
                <a:off x="7215840" y="3495240"/>
                <a:ext cx="1080" cy="46116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  <a:tailEnd len="med" type="arrow" w="med"/>
              </a:ln>
            </p:spPr>
          </p:cxnSp>
        </p:grpSp>
        <p:sp>
          <p:nvSpPr>
            <p:cNvPr id="1091" name="文本框 23"/>
            <p:cNvSpPr/>
            <p:nvPr/>
          </p:nvSpPr>
          <p:spPr>
            <a:xfrm>
              <a:off x="6958440" y="3918600"/>
              <a:ext cx="53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2" name="文本框 27"/>
          <p:cNvSpPr/>
          <p:nvPr/>
        </p:nvSpPr>
        <p:spPr>
          <a:xfrm>
            <a:off x="318960" y="4341960"/>
            <a:ext cx="27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000000=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文本框 28"/>
          <p:cNvSpPr/>
          <p:nvPr/>
        </p:nvSpPr>
        <p:spPr>
          <a:xfrm>
            <a:off x="2787480" y="4341960"/>
            <a:ext cx="27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000000=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文本框 35"/>
          <p:cNvSpPr/>
          <p:nvPr/>
        </p:nvSpPr>
        <p:spPr>
          <a:xfrm>
            <a:off x="5559480" y="4341960"/>
            <a:ext cx="39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30500000000=530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96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7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98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9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0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06" name="TextBox 7"/>
          <p:cNvSpPr/>
          <p:nvPr/>
        </p:nvSpPr>
        <p:spPr>
          <a:xfrm>
            <a:off x="5943600" y="917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5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Box 7"/>
          <p:cNvSpPr/>
          <p:nvPr/>
        </p:nvSpPr>
        <p:spPr>
          <a:xfrm>
            <a:off x="5924520" y="14508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90006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Box 7"/>
          <p:cNvSpPr/>
          <p:nvPr/>
        </p:nvSpPr>
        <p:spPr>
          <a:xfrm>
            <a:off x="5837400" y="2052720"/>
            <a:ext cx="24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00407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Box 7"/>
          <p:cNvSpPr/>
          <p:nvPr/>
        </p:nvSpPr>
        <p:spPr>
          <a:xfrm>
            <a:off x="609480" y="2644920"/>
            <a:ext cx="800100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写出下面各组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三十                     三十万                      三十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一百零七             一百零七万              一百零七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九千二百             九千二百万              九千二百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矩形 73733"/>
          <p:cNvSpPr/>
          <p:nvPr/>
        </p:nvSpPr>
        <p:spPr>
          <a:xfrm>
            <a:off x="609480" y="725400"/>
            <a:ext cx="60199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二十五亿                        写作：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四百九十亿零六十万      写作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五千零四亿零七百万      写作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5562720" y="1298520"/>
            <a:ext cx="2743200" cy="360"/>
            <a:chOff x="5562720" y="1298520"/>
            <a:chExt cx="2743200" cy="360"/>
          </a:xfrm>
        </p:grpSpPr>
        <p:sp>
          <p:nvSpPr>
            <p:cNvPr id="1112" name="直接连接符 73734"/>
            <p:cNvSpPr/>
            <p:nvPr/>
          </p:nvSpPr>
          <p:spPr>
            <a:xfrm>
              <a:off x="5562720" y="129852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 txBox="1"/>
            <p:nvPr/>
          </p:nvSpPr>
          <p:spPr>
            <a:xfrm>
              <a:off x="5562720" y="1298520"/>
              <a:ext cx="2743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5562720" y="1832040"/>
            <a:ext cx="2743200" cy="360"/>
            <a:chOff x="5562720" y="1832040"/>
            <a:chExt cx="2743200" cy="360"/>
          </a:xfrm>
        </p:grpSpPr>
        <p:sp>
          <p:nvSpPr>
            <p:cNvPr id="1115" name="直接连接符 73735"/>
            <p:cNvSpPr/>
            <p:nvPr/>
          </p:nvSpPr>
          <p:spPr>
            <a:xfrm>
              <a:off x="5562720" y="183204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 txBox="1"/>
            <p:nvPr/>
          </p:nvSpPr>
          <p:spPr>
            <a:xfrm>
              <a:off x="5562720" y="1832040"/>
              <a:ext cx="2743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5562720" y="2441520"/>
            <a:ext cx="2743200" cy="360"/>
            <a:chOff x="5562720" y="2441520"/>
            <a:chExt cx="2743200" cy="360"/>
          </a:xfrm>
        </p:grpSpPr>
        <p:sp>
          <p:nvSpPr>
            <p:cNvPr id="1118" name="直接连接符 73736"/>
            <p:cNvSpPr/>
            <p:nvPr/>
          </p:nvSpPr>
          <p:spPr>
            <a:xfrm>
              <a:off x="5562720" y="244152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 txBox="1"/>
            <p:nvPr/>
          </p:nvSpPr>
          <p:spPr>
            <a:xfrm>
              <a:off x="5562720" y="2441520"/>
              <a:ext cx="2743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0" name="Rectangle 64"/>
          <p:cNvSpPr/>
          <p:nvPr/>
        </p:nvSpPr>
        <p:spPr>
          <a:xfrm>
            <a:off x="380880" y="230040"/>
            <a:ext cx="2789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文本框 73739"/>
          <p:cNvSpPr/>
          <p:nvPr/>
        </p:nvSpPr>
        <p:spPr>
          <a:xfrm>
            <a:off x="1637280" y="384192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写作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：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文本框 73740"/>
          <p:cNvSpPr/>
          <p:nvPr/>
        </p:nvSpPr>
        <p:spPr>
          <a:xfrm>
            <a:off x="3766680" y="3841920"/>
            <a:ext cx="14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写作：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文本框 73741"/>
          <p:cNvSpPr/>
          <p:nvPr/>
        </p:nvSpPr>
        <p:spPr>
          <a:xfrm>
            <a:off x="1638360" y="4741920"/>
            <a:ext cx="10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写作：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文本框 73742"/>
          <p:cNvSpPr/>
          <p:nvPr/>
        </p:nvSpPr>
        <p:spPr>
          <a:xfrm>
            <a:off x="6205320" y="3827520"/>
            <a:ext cx="191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写作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：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0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文本框 73743"/>
          <p:cNvSpPr/>
          <p:nvPr/>
        </p:nvSpPr>
        <p:spPr>
          <a:xfrm>
            <a:off x="3773160" y="474192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写作：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7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文本框 73744"/>
          <p:cNvSpPr/>
          <p:nvPr/>
        </p:nvSpPr>
        <p:spPr>
          <a:xfrm>
            <a:off x="6231600" y="474192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写作：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7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文本框 73745"/>
          <p:cNvSpPr/>
          <p:nvPr/>
        </p:nvSpPr>
        <p:spPr>
          <a:xfrm>
            <a:off x="1638720" y="5580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写作：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9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文本框 73746"/>
          <p:cNvSpPr/>
          <p:nvPr/>
        </p:nvSpPr>
        <p:spPr>
          <a:xfrm>
            <a:off x="3773520" y="5580000"/>
            <a:ext cx="16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写作：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92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文本框 73747"/>
          <p:cNvSpPr/>
          <p:nvPr/>
        </p:nvSpPr>
        <p:spPr>
          <a:xfrm>
            <a:off x="6212880" y="5580000"/>
            <a:ext cx="21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写作：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9200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TextBox 7"/>
          <p:cNvSpPr/>
          <p:nvPr/>
        </p:nvSpPr>
        <p:spPr>
          <a:xfrm>
            <a:off x="685800" y="990720"/>
            <a:ext cx="7010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方正书宋简体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把下面各数改写成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亿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作单位的数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6"/>
          <p:cNvSpPr/>
          <p:nvPr/>
        </p:nvSpPr>
        <p:spPr>
          <a:xfrm>
            <a:off x="614520" y="1523880"/>
            <a:ext cx="464328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46000000000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亿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7050000000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12060000000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亿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580000000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文本框 74755"/>
          <p:cNvSpPr/>
          <p:nvPr/>
        </p:nvSpPr>
        <p:spPr>
          <a:xfrm>
            <a:off x="3658680" y="1828800"/>
            <a:ext cx="73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46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文本框 74756"/>
          <p:cNvSpPr/>
          <p:nvPr/>
        </p:nvSpPr>
        <p:spPr>
          <a:xfrm>
            <a:off x="3658680" y="2635200"/>
            <a:ext cx="73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7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文本框 74757"/>
          <p:cNvSpPr/>
          <p:nvPr/>
        </p:nvSpPr>
        <p:spPr>
          <a:xfrm>
            <a:off x="3728520" y="3397320"/>
            <a:ext cx="91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12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文本框 74758"/>
          <p:cNvSpPr/>
          <p:nvPr/>
        </p:nvSpPr>
        <p:spPr>
          <a:xfrm>
            <a:off x="3659040" y="4235400"/>
            <a:ext cx="54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5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37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8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39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0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1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2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3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4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5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6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47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Box 32"/>
          <p:cNvSpPr/>
          <p:nvPr/>
        </p:nvSpPr>
        <p:spPr>
          <a:xfrm>
            <a:off x="293760" y="3260880"/>
            <a:ext cx="84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把一个整亿的数改写成用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亿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作单位的数，就是去掉这个数末尾的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个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，在后面加上一个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亿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字。原数和改写的数中间用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连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Box 32"/>
          <p:cNvSpPr/>
          <p:nvPr/>
        </p:nvSpPr>
        <p:spPr>
          <a:xfrm>
            <a:off x="277920" y="1023840"/>
            <a:ext cx="8448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写数时，首先观察这个数含有几个数级，然后看各级上有哪些数，最后对照数位顺序表从高位写起。哪个数位上一个单位也没有，就在那个数位上写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9T07:51:00Z</dcterms:created>
  <dc:creator/>
  <dc:description/>
  <dc:language>en-US</dc:language>
  <cp:lastModifiedBy>万润仪器贸易公司</cp:lastModifiedBy>
  <dcterms:modified xsi:type="dcterms:W3CDTF">2020-08-21T08:52:30Z</dcterms:modified>
  <cp:revision>5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